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bomb.wav" ContentType="audio/x-wav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F30E-06AA-4284-BAAB-D42E465286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90F3-001C-470C-B3E6-807268897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5A3A-367D-43A6-99E6-CC70011E9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71DE-453B-4E9F-B564-DDF21C09F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D0E0-C74C-4A1B-B69E-976C4FAAB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3326-9FD6-40E8-BACB-A781E7036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7431-2749-4538-B4D6-E7BE3FD04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406D-599D-4AA8-AC43-8F90FF8AC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3631-A6C6-4139-8B35-3B8E9F94A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EC40-38A2-4A97-9EE7-268B37E23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59D0-A71B-4BA9-A156-46FA89D39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165E-CA2B-4D1F-86E9-E04ACE643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6796-30C7-4396-83C7-F78328FDA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CC7E-0109-4678-8CE0-B1870CAA0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1BF5-1422-4B96-867C-0F19DC6DA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87B9-2AF2-4393-8F3F-AE7A22BE9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ACE-520A-45CD-A9CC-C1BF5105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174-DACE-41C3-B850-F5DB5C73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A8E-51E6-4953-946D-C99C0686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47B-0864-4F59-8B3F-F8191EDC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8A1-06B1-44D7-9B9B-145D131E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9DF-26D5-41DE-B4B5-79DA23C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307-1866-4A12-8647-7F7081C7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FCA-1B75-4387-82D1-950F467A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C8B-DF9E-4C28-A81A-8D1EF6AA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535-FA58-46B8-B908-6994CFC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4D5-DD56-4C75-B4B3-9F47E80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98A-BFD8-404B-85BA-2F4AAC73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27A4-756F-4F6C-802E-DB23569A6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C446-787D-4AFA-9357-077ED94DC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bomb.wav" TargetMode="External"/><Relationship Id="rId3" Type="http://schemas.microsoft.com/office/2007/relationships/media" Target="file:///tmp/home/.config/libreoffice/4/user/gallery/bomb.wav" TargetMode="External"/><Relationship Id="rId4" Type="http://schemas.openxmlformats.org/officeDocument/2006/relationships/image" Target="../media/image13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785196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endar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52480" y="3200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s of the Calen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600200" y="44956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d by:  Ramona Lewis-Dai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locate the different parts of a calend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066680" y="2057400"/>
            <a:ext cx="731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990720"/>
          <a:ext cx="7772400" cy="4954320"/>
        </p:xfrm>
        <a:graphic>
          <a:graphicData uri="http://schemas.openxmlformats.org/drawingml/2006/table">
            <a:tbl>
              <a:tblPr/>
              <a:tblGrid>
                <a:gridCol w="981000"/>
                <a:gridCol w="1119240"/>
                <a:gridCol w="1190520"/>
                <a:gridCol w="1330560"/>
                <a:gridCol w="1050840"/>
                <a:gridCol w="957240"/>
                <a:gridCol w="114300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99" name="TextBox 4"/>
          <p:cNvSpPr/>
          <p:nvPr/>
        </p:nvSpPr>
        <p:spPr>
          <a:xfrm>
            <a:off x="457200" y="304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6"/>
          <p:cNvCxnSpPr/>
          <p:nvPr/>
        </p:nvCxnSpPr>
        <p:spPr>
          <a:xfrm>
            <a:off x="1294920" y="533520"/>
            <a:ext cx="2591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TextBox 7"/>
          <p:cNvSpPr/>
          <p:nvPr/>
        </p:nvSpPr>
        <p:spPr>
          <a:xfrm>
            <a:off x="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9"/>
          <p:cNvCxnSpPr/>
          <p:nvPr/>
        </p:nvCxnSpPr>
        <p:spPr>
          <a:xfrm>
            <a:off x="609480" y="114300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0" y="36576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e full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6"/>
          <p:cNvCxnSpPr/>
          <p:nvPr/>
        </p:nvCxnSpPr>
        <p:spPr>
          <a:xfrm>
            <a:off x="685800" y="39625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" name="TextBox 17"/>
          <p:cNvSpPr/>
          <p:nvPr/>
        </p:nvSpPr>
        <p:spPr>
          <a:xfrm>
            <a:off x="708660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t day of the mo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9"/>
          <p:cNvCxnSpPr>
            <a:stCxn id="105" idx="1"/>
          </p:cNvCxnSpPr>
          <p:nvPr/>
        </p:nvCxnSpPr>
        <p:spPr>
          <a:xfrm flipH="1" flipV="1">
            <a:off x="6095520" y="5790960"/>
            <a:ext cx="99144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>
            <a:off x="685800" y="579132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TextBox 26"/>
          <p:cNvSpPr/>
          <p:nvPr/>
        </p:nvSpPr>
        <p:spPr>
          <a:xfrm>
            <a:off x="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7"/>
          <p:cNvSpPr/>
          <p:nvPr/>
        </p:nvSpPr>
        <p:spPr>
          <a:xfrm>
            <a:off x="3200400" y="16002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th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29"/>
          <p:cNvCxnSpPr/>
          <p:nvPr/>
        </p:nvCxnSpPr>
        <p:spPr>
          <a:xfrm flipV="1">
            <a:off x="3809520" y="1752480"/>
            <a:ext cx="3819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ing a Calendar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066680" y="2057400"/>
            <a:ext cx="731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914400"/>
          <a:ext cx="6019920" cy="3581280"/>
        </p:xfrm>
        <a:graphic>
          <a:graphicData uri="http://schemas.openxmlformats.org/drawingml/2006/table">
            <a:tbl>
              <a:tblPr/>
              <a:tblGrid>
                <a:gridCol w="758880"/>
                <a:gridCol w="868320"/>
                <a:gridCol w="922320"/>
                <a:gridCol w="1030320"/>
                <a:gridCol w="812880"/>
                <a:gridCol w="741240"/>
                <a:gridCol w="88596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18"/>
          <p:cNvSpPr/>
          <p:nvPr/>
        </p:nvSpPr>
        <p:spPr>
          <a:xfrm>
            <a:off x="1447920" y="45720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days are in this month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hich day does the month begin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Fridays are in this mon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hich day will the next month star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ate of the second Satur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on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ing a Calendar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066680" y="2057400"/>
            <a:ext cx="731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52480" y="914400"/>
          <a:ext cx="6019920" cy="3478320"/>
        </p:xfrm>
        <a:graphic>
          <a:graphicData uri="http://schemas.openxmlformats.org/drawingml/2006/table">
            <a:tbl>
              <a:tblPr/>
              <a:tblGrid>
                <a:gridCol w="758880"/>
                <a:gridCol w="868320"/>
                <a:gridCol w="922320"/>
                <a:gridCol w="1030320"/>
                <a:gridCol w="812880"/>
                <a:gridCol w="741240"/>
                <a:gridCol w="885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18"/>
          <p:cNvSpPr/>
          <p:nvPr/>
        </p:nvSpPr>
        <p:spPr>
          <a:xfrm>
            <a:off x="1447920" y="45720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days are in this month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hich day does the month begin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Fridays are in this mon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hich day will the next month star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ate of the second Satur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on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791320" y="4648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ues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ugust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missing from this calend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5800" y="1143000"/>
          <a:ext cx="7772400" cy="5335560"/>
        </p:xfrm>
        <a:graphic>
          <a:graphicData uri="http://schemas.openxmlformats.org/drawingml/2006/table">
            <a:tbl>
              <a:tblPr/>
              <a:tblGrid>
                <a:gridCol w="981000"/>
                <a:gridCol w="1119240"/>
                <a:gridCol w="1190520"/>
                <a:gridCol w="1330560"/>
                <a:gridCol w="1058760"/>
                <a:gridCol w="949320"/>
                <a:gridCol w="11430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Box 3"/>
          <p:cNvSpPr/>
          <p:nvPr/>
        </p:nvSpPr>
        <p:spPr>
          <a:xfrm>
            <a:off x="2209680" y="762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calend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30477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alendar is a way to keep track of the days, weeks, and months in a ye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http://www.timeanddate.com/gfx/blank.gif"/>
          <p:cNvPicPr/>
          <p:nvPr/>
        </p:nvPicPr>
        <p:blipFill>
          <a:blip r:embed="rId1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timeanddate.com/gfx/blank.gif"/>
          <p:cNvPicPr/>
          <p:nvPr/>
        </p:nvPicPr>
        <p:blipFill>
          <a:blip r:embed="rId2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New"/>
          <p:cNvPicPr/>
          <p:nvPr/>
        </p:nvPicPr>
        <p:blipFill>
          <a:blip r:embed="rId3"/>
          <a:stretch/>
        </p:blipFill>
        <p:spPr>
          <a:xfrm>
            <a:off x="0" y="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Q"/>
          <p:cNvPicPr/>
          <p:nvPr/>
        </p:nvPicPr>
        <p:blipFill>
          <a:blip r:embed="rId4"/>
          <a:stretch/>
        </p:blipFill>
        <p:spPr>
          <a:xfrm>
            <a:off x="0" y="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ull"/>
          <p:cNvPicPr/>
          <p:nvPr/>
        </p:nvPicPr>
        <p:blipFill>
          <a:blip r:embed="rId5"/>
          <a:stretch/>
        </p:blipFill>
        <p:spPr>
          <a:xfrm>
            <a:off x="0" y="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3Q"/>
          <p:cNvPicPr/>
          <p:nvPr/>
        </p:nvPicPr>
        <p:blipFill>
          <a:blip r:embed="rId6"/>
          <a:stretch/>
        </p:blipFill>
        <p:spPr>
          <a:xfrm>
            <a:off x="0" y="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pacman\AppData\Local\Microsoft\Windows\Temporary Internet Files\Content.IE5\S5WT93UT\MCj04322370000[1].wmf"/>
          <p:cNvPicPr/>
          <p:nvPr/>
        </p:nvPicPr>
        <p:blipFill>
          <a:blip r:embed="rId7"/>
          <a:stretch/>
        </p:blipFill>
        <p:spPr>
          <a:xfrm>
            <a:off x="3429000" y="2209680"/>
            <a:ext cx="2209680" cy="182736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f there were no calendars it would be extremely difficult for people to keep up with important event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C:\Users\pacman\AppData\Local\Microsoft\Windows\Temporary Internet Files\Content.IE5\53ODT1K1\MCj03519210000[1].wmf"/>
          <p:cNvPicPr/>
          <p:nvPr/>
        </p:nvPicPr>
        <p:blipFill>
          <a:blip r:embed="rId1"/>
          <a:stretch/>
        </p:blipFill>
        <p:spPr>
          <a:xfrm>
            <a:off x="4267080" y="419112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ch as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15998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irthday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pacman\AppData\Local\Microsoft\Windows\Temporary Internet Files\Content.IE5\53ODT1K1\MCj04258120000[1].wmf"/>
          <p:cNvPicPr/>
          <p:nvPr/>
        </p:nvPicPr>
        <p:blipFill>
          <a:blip r:embed="rId1"/>
          <a:stretch/>
        </p:blipFill>
        <p:spPr>
          <a:xfrm>
            <a:off x="0" y="0"/>
            <a:ext cx="2666880" cy="2717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914400" y="4038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Anniversa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066680" y="28954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ndependence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Users\pacman\AppData\Local\Microsoft\Windows\Temporary Internet Files\Content.IE5\53ODT1K1\MCj03056050000[1].wmf"/>
          <p:cNvPicPr/>
          <p:nvPr/>
        </p:nvPicPr>
        <p:blipFill>
          <a:blip r:embed="rId2"/>
          <a:stretch/>
        </p:blipFill>
        <p:spPr>
          <a:xfrm>
            <a:off x="6477120" y="4343400"/>
            <a:ext cx="240660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ristma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pacman\AppData\Local\Microsoft\Windows\Temporary Internet Files\Content.IE5\ZE7E50QK\MCj04362990000[1].png"/>
          <p:cNvPicPr/>
          <p:nvPr/>
        </p:nvPicPr>
        <p:blipFill>
          <a:blip r:embed="rId1"/>
          <a:stretch/>
        </p:blipFill>
        <p:spPr>
          <a:xfrm>
            <a:off x="3657600" y="1447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838080" y="297180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anksgiv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Users\pacman\AppData\Local\Microsoft\Windows\Temporary Internet Files\Content.IE5\S5WT93UT\MCj03975760000[1].wmf"/>
          <p:cNvPicPr/>
          <p:nvPr/>
        </p:nvPicPr>
        <p:blipFill>
          <a:blip r:embed="rId2"/>
          <a:stretch/>
        </p:blipFill>
        <p:spPr>
          <a:xfrm>
            <a:off x="2057400" y="4267080"/>
            <a:ext cx="476424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457200" y="380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ew Year’s 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pacman\AppData\Local\Microsoft\Windows\Temporary Internet Files\Content.IE5\S5WT93UT\MCSO00573_0000[1].wmf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81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533520" y="2514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600200" y="190512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calend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752480"/>
          <a:ext cx="8001000" cy="4923000"/>
        </p:xfrm>
        <a:graphic>
          <a:graphicData uri="http://schemas.openxmlformats.org/drawingml/2006/table">
            <a:tbl>
              <a:tblPr/>
              <a:tblGrid>
                <a:gridCol w="1009800"/>
                <a:gridCol w="1152360"/>
                <a:gridCol w="1225440"/>
                <a:gridCol w="1370160"/>
                <a:gridCol w="1081080"/>
                <a:gridCol w="985680"/>
                <a:gridCol w="1176480"/>
              </a:tblGrid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78" name="TextBox 3"/>
          <p:cNvSpPr/>
          <p:nvPr/>
        </p:nvSpPr>
        <p:spPr>
          <a:xfrm>
            <a:off x="3429000" y="1219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ly 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are the parts of a calend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14800" y="22824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1066680" y="2057400"/>
            <a:ext cx="731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43000" y="990720"/>
          <a:ext cx="7772400" cy="4954320"/>
        </p:xfrm>
        <a:graphic>
          <a:graphicData uri="http://schemas.openxmlformats.org/drawingml/2006/table">
            <a:tbl>
              <a:tblPr/>
              <a:tblGrid>
                <a:gridCol w="981000"/>
                <a:gridCol w="1119240"/>
                <a:gridCol w="1176480"/>
                <a:gridCol w="1295280"/>
                <a:gridCol w="1100160"/>
                <a:gridCol w="957240"/>
                <a:gridCol w="114300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3a2c7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cxnSp>
        <p:nvCxnSpPr>
          <p:cNvPr id="83" name="Straight Arrow Connector 6"/>
          <p:cNvCxnSpPr/>
          <p:nvPr/>
        </p:nvCxnSpPr>
        <p:spPr>
          <a:xfrm>
            <a:off x="1371240" y="685800"/>
            <a:ext cx="2134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9"/>
          <p:cNvCxnSpPr/>
          <p:nvPr/>
        </p:nvCxnSpPr>
        <p:spPr>
          <a:xfrm>
            <a:off x="609480" y="114300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19"/>
          <p:cNvCxnSpPr/>
          <p:nvPr/>
        </p:nvCxnSpPr>
        <p:spPr>
          <a:xfrm flipH="1" flipV="1">
            <a:off x="6095160" y="5790960"/>
            <a:ext cx="7628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8"/>
          <p:cNvCxnSpPr/>
          <p:nvPr/>
        </p:nvCxnSpPr>
        <p:spPr>
          <a:xfrm>
            <a:off x="837720" y="2819160"/>
            <a:ext cx="3819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9"/>
          <p:cNvSpPr/>
          <p:nvPr/>
        </p:nvSpPr>
        <p:spPr>
          <a:xfrm>
            <a:off x="3049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228600" y="380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1"/>
          <p:cNvSpPr/>
          <p:nvPr/>
        </p:nvSpPr>
        <p:spPr>
          <a:xfrm>
            <a:off x="0" y="990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33"/>
          <p:cNvCxnSpPr/>
          <p:nvPr/>
        </p:nvCxnSpPr>
        <p:spPr>
          <a:xfrm>
            <a:off x="456840" y="4800600"/>
            <a:ext cx="686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xtBox 35"/>
          <p:cNvSpPr/>
          <p:nvPr/>
        </p:nvSpPr>
        <p:spPr>
          <a:xfrm>
            <a:off x="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6858000" y="61722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st day of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39"/>
          <p:cNvCxnSpPr/>
          <p:nvPr/>
        </p:nvCxnSpPr>
        <p:spPr>
          <a:xfrm flipV="1">
            <a:off x="3657600" y="1752480"/>
            <a:ext cx="45792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42"/>
          <p:cNvSpPr/>
          <p:nvPr/>
        </p:nvSpPr>
        <p:spPr>
          <a:xfrm>
            <a:off x="3352680" y="1600200"/>
            <a:ext cx="6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ay of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6:30:25Z</dcterms:created>
  <dc:creator>pacman</dc:creator>
  <dc:description/>
  <dc:language>en-US</dc:language>
  <cp:lastModifiedBy>Laura McDow</cp:lastModifiedBy>
  <dcterms:modified xsi:type="dcterms:W3CDTF">2010-09-09T13:35:10Z</dcterms:modified>
  <cp:revision>39</cp:revision>
  <dc:subject/>
  <dc:title>Calendar Lesson</dc:title>
</cp:coreProperties>
</file>